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ABF-BA9B-4146-9530-F2A9DCD6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159-7D3C-473E-8308-EA93A8C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0E1-A363-4A95-9470-79132607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927-B631-48D2-B97C-F3A4B080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63C-84CF-41BC-850D-DD829D1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4A13-E0B8-445B-A504-C343F68D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EDF6-00FE-468D-A159-222B2364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827-3F79-4EFC-B426-86E3209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AC07-9684-409D-849B-E6E5645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987D-918C-4E06-8171-8875611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5244-FF8A-49CB-A991-87589DA8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2BD-09B4-479C-949F-EF1E92C4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172-5EDE-4790-ACFE-7714195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5656-5CF3-45D7-9897-3CAC615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519A-196D-41A3-9B56-A44C4E13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97A-7CB5-4C59-AF32-942ABD94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AC10-E55C-4333-AF27-A1463C6D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9D8-1C71-4150-9DDA-8709C8EA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739-8831-48C0-9D80-97FA10C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F35-700E-47DC-9F22-1E58BB6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1A8-12B0-46C7-A76F-922AFF85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DCD-3C5D-4C5C-9DA6-BE17135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474-B7EC-48EF-8484-44A51C7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E7D-06EF-4653-85C0-6AD461B0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2E4-247A-4B3A-B11B-8AB57F87120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7E4A-276B-4367-9639-3A892EFD97E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FLASH CARD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923_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810240" cy="223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381880" cy="1752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phenomena of group leadership and member interaction characterized by inward-looking, self-regulating, and stereotyping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5867280" cy="114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Groupthin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3504960"/>
            <a:ext cx="6629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phenomena of group leadership and member interaction characterized by inward-looking, self-regulating, and stereotyping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2892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nteraction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2133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udy of personality considers the person and the situation as co-determinants of behavio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4648320"/>
            <a:ext cx="6629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actional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2892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45:51Z</dcterms:created>
  <dc:creator>Dianne Jones</dc:creator>
  <dc:description/>
  <dc:language>en-US</dc:language>
  <cp:lastModifiedBy>jonesd</cp:lastModifiedBy>
  <dcterms:modified xsi:type="dcterms:W3CDTF">2002-07-19T14:57:48Z</dcterms:modified>
  <cp:revision>12</cp:revision>
  <dc:subject/>
  <dc:title>FLASH CARDS</dc:title>
</cp:coreProperties>
</file>